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type.wav" ContentType="audio/x-wav"/>
  <Override PartName="/ppt/media/arrow.wav" ContentType="audio/x-wav"/>
  <Override PartName="/ppt/media/cashreg.wav" ContentType="audio/x-wav"/>
  <Override PartName="/ppt/media/coin.wav" ContentType="audio/x-wav"/>
  <Override PartName="/ppt/media/wind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B0F-D72B-4A2B-A163-3E9BC463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417-FCAC-4A1D-8CFA-BB5053EF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532-4515-480B-98AE-73BF8045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63B-06EB-4E48-92AB-B19C62FD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E341-39B8-45D0-8F94-7172419E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5BFD-1640-484F-ADE0-9E5D42C8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3396-2E2C-4CCB-9AA3-3551201E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1936-CDC8-42D0-8677-E6950652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EC48-BA8F-41B9-8F5F-7B21E1B0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CF87-E7A8-49C3-87E6-F2ABECF8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3B4E-D50C-4C04-9D69-2CA1EEA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685-E447-45E3-A322-3A7D1EEF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7794-5785-4892-8AF8-AF2BA76E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DEEE-5D4B-4F64-A652-C98F8ED7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73F8-3F02-4B5A-86E6-9105EFAD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6A0B-5DEB-40CA-8D6A-5EC88B8F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E5F2-593C-4EDC-B3FE-B297147E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760-E087-4388-82BE-CC741577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39D-8852-4570-B30E-978C5533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58A-34DD-4DF0-A16F-41E3094F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14F-F099-4B23-8001-D2B26434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2246-D2F3-4294-BA07-D95A60B8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8C6-E68C-4371-AB17-AE1A9678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988D-0ADF-45B0-B59E-81D4003E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AD3A-0C7A-4451-9295-13CF041C672C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ثلاثاء 28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504840"/>
            <a:ext cx="2895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A36F-E2E2-4653-AD7A-320DE7472F15}" type="slidenum">
              <a:rPr b="1" lang="ar-SA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6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720E-40B9-49F4-83B5-0E8554C3FF51}" type="datetime3">
              <a:rPr b="0" lang="ar-SA" sz="1200" spc="-1" strike="noStrike">
                <a:solidFill>
                  <a:srgbClr val="b2b2b2"/>
                </a:solidFill>
                <a:latin typeface="Tahoma"/>
              </a:rPr>
              <a:t>الثلاثاء 28 يوليو 20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54100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E1BF-5BA8-4E2F-B1E6-932F4F3D77CE}" type="slidenum">
              <a:rPr b="1" lang="ar-SA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900" spc="-1" strike="noStrike">
                <a:solidFill>
                  <a:srgbClr val="ffff00"/>
                </a:solidFill>
                <a:latin typeface="Tahoma"/>
                <a:cs typeface="DecoType Naskh Variants"/>
              </a:rPr>
              <a:t>أضْرُبُ الخبَرِ</a:t>
            </a:r>
            <a:endParaRPr b="0" lang="en-US" sz="1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00ff00"/>
                </a:solidFill>
                <a:latin typeface="Tahoma"/>
                <a:cs typeface="DecoType Naskh Variants"/>
              </a:rPr>
              <a:t>علمُ المَعَانِى</a:t>
            </a:r>
            <a:endParaRPr b="0" lang="en-US" sz="9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F6F1-2A3C-43FC-8430-FBC51CD272D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6FFD4E5-81E7-4DC7-993D-EE7267B2A08D}" type="datetime3">
              <a:rPr lang="en-US"/>
              <a:t>July 28, 2026</a:t>
            </a:fld>
          </a:p>
        </p:txBody>
      </p:sp>
    </p:spTree>
  </p:cSld>
  <p:transition>
    <p:wheel spokes="1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98064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1</a:t>
            </a:r>
            <a:r>
              <a:rPr b="0" lang="ar-SA" sz="6000" spc="-1" strike="noStrike" u="sng">
                <a:solidFill>
                  <a:srgbClr val="ffff00"/>
                </a:solidFill>
                <a:uFillTx/>
                <a:latin typeface="Tahoma"/>
                <a:ea typeface="DecoType Naskh Variants"/>
              </a:rPr>
              <a:t>- الابتدائ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49000"/>
            <a:ext cx="70866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ذى يكون خالياً من المؤكدات لأنَّ المخاطب خالى الذهن من الحكم الذى تضمَّن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ال تعالى : </a:t>
            </a: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بَلْ فعَلهُ كبيرُهُمْ هذ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* قول المتنبِّى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أنَا الذى نظرَ الأعْمَى إلى أدَب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و أسْمَعَتْ كلمَاتِى مَنْ بهِ صَمَم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CE4-32D7-4A02-8694-274F79863F8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3933B-425C-4B33-BA6C-0E5E6BE00580}" type="datetime3">
              <a:rPr lang="en-US"/>
              <a:t>July 28, 2026</a:t>
            </a:fld>
          </a:p>
        </p:txBody>
      </p:sp>
    </p:spTree>
  </p:cSld>
  <p:transition>
    <p:pull dir="d"/>
    <p:sndAc>
      <p:stSnd>
        <p:snd r:embed="rId1" name="type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ال أبو تمَّا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يَنالُ الفتىَ مِنْ عَيْشِهِ و هوَ جَاهِل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و يُكدِى الفتى فِى دَهْرهِِ و هوَ عَالِم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و لو كانتْ الأرْزَاقُ تجرى عَلى 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                  حِجَا هَلكْنَ إذاً مِنْ جَهْلِهنَّ البَهَائـِـمُ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هذه الأخبار لا تشتمل على مؤكدات و يسمَّى هذا الضرب من الأخبار ( </a:t>
            </a: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ابتدائيَّاً</a:t>
            </a:r>
            <a:r>
              <a:rPr b="0" lang="ar-SA" sz="4000" spc="-1" strike="noStrike">
                <a:solidFill>
                  <a:srgbClr val="00ff00"/>
                </a:solidFill>
                <a:latin typeface="Tahoma"/>
                <a:ea typeface="DecoType Naskh Extensions"/>
              </a:rPr>
              <a:t>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AA2-459D-4A1E-A795-75B67A5C937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662C3-7F1A-49CA-A855-4203C3B258A4}" type="datetime3">
              <a:rPr lang="en-US"/>
              <a:t>July 28, 2026</a:t>
            </a:fld>
          </a:p>
        </p:txBody>
      </p:sp>
    </p:spTree>
  </p:cSld>
  <p:transition>
    <p:strips dir="rd"/>
    <p:sndAc>
      <p:stSnd>
        <p:snd r:embed="rId1" name="arrow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2</a:t>
            </a:r>
            <a:r>
              <a:rPr b="0" lang="ar-SA" sz="6000" spc="-1" strike="noStrike" u="sng">
                <a:solidFill>
                  <a:srgbClr val="00ff00"/>
                </a:solidFill>
                <a:uFillTx/>
                <a:latin typeface="Tahoma"/>
                <a:ea typeface="DecoType Naskh Variants"/>
              </a:rPr>
              <a:t>- الطلبى 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060280"/>
            <a:ext cx="70866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ذى يتردَّد فيه المخاطب و لا يعرف مدى صحته و يؤكد بمؤكد واح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“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ذْ قالوا ليُوسُفُ و أخُوهُ أحَبُّ إلى أبينَا مِنَّ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إنَّ العُيُونَ التِى فِى طرْفِهَا حَوَر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                             قتلننَا ثمَّ لمْ يُحْيينَ قتلانـَـــــــا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عْلمُ الله المُعَوِّقينَ مِنكمْ و القائِلِينَ لإخوَانِهمْ هَلمَّ إليْنَا و لا يَأتونَ البَأسَ إلا قليلا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6C43-2948-4A3C-8EB5-558711FDDA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D2FD6-C045-465C-A011-B2B3E3166DF6}" type="datetime3">
              <a:rPr lang="en-US"/>
              <a:t>July 28, 2026</a:t>
            </a:fld>
          </a:p>
        </p:txBody>
      </p:sp>
    </p:spTree>
  </p:cSld>
  <p:transition>
    <p:strips dir="rd"/>
    <p:sndAc>
      <p:stSnd>
        <p:snd r:embed="rId1" name="cashreg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سرى الرفاء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َ البنَاءَ إذا مَا انْهَدَّ جَانِبُهُ    لمْ يَأمَنِ النَّاسُ أنْ يَنْهَدَّ بَاقِ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أبو العتاه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إنِّى رأيْتُ عَوَاقِبَ الدنيَا        فترَكتُ مَا أهْوَى لِمَا أخشَى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شريف الرَّض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ff00"/>
                </a:solidFill>
                <a:latin typeface="Tahoma"/>
              </a:rPr>
              <a:t>قدْ يَبْلغُ الرَّجُلُ الجَبَانُ بمَالِهِ   مَا ليْسَ يَبْلغهُ الشجَاعُ المُعْدم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9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يلاحظ فى هذه الأمثلة أنَّ المخاطب له بالحكم إلمام قليل يمتزج بالشكِّ و لهذا أكد الخبر بمؤكد واحد و يسمَّى هذا الضرب من الأخبار ( </a:t>
            </a:r>
            <a:r>
              <a:rPr b="0" lang="ar-SA" sz="3600" spc="-1" strike="noStrike">
                <a:solidFill>
                  <a:srgbClr val="00ff00"/>
                </a:solidFill>
                <a:latin typeface="Tahoma"/>
                <a:cs typeface="DecoType Naskh Extensions"/>
              </a:rPr>
              <a:t>طلبيَّاً</a:t>
            </a:r>
            <a:r>
              <a:rPr b="0" lang="ar-SA" sz="3600" spc="-1" strike="noStrike">
                <a:solidFill>
                  <a:srgbClr val="ffff00"/>
                </a:solidFill>
                <a:latin typeface="Tahoma"/>
                <a:ea typeface="DecoType Naskh Extensions"/>
              </a:rPr>
              <a:t> )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44E-871A-4CE8-AE31-E7F3FFC0E3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7DC82-8486-4565-A553-2ECCC09698B0}" type="datetime3">
              <a:rPr lang="en-US"/>
              <a:t>July 28, 2026</a:t>
            </a:fld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907920"/>
            <a:ext cx="7086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3</a:t>
            </a:r>
            <a:r>
              <a:rPr b="0" lang="ar-SA" sz="4800" spc="-1" strike="noStrike" u="sng">
                <a:solidFill>
                  <a:srgbClr val="ff0066"/>
                </a:solidFill>
                <a:uFillTx/>
                <a:latin typeface="Tahoma"/>
                <a:ea typeface="DecoType Naskh Extensions"/>
              </a:rPr>
              <a:t>- الإنكارى 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9000"/>
            <a:ext cx="70866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 هو الذى ينكره المخاطب إنكاراً يحتاج إلى أن يؤكد بأكثر من مؤكد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أمثل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إليْكمْ لمُرْسَلونَ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كمْ لذائِقو العَذابِ الألِيم ”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تعالى : ” </a:t>
            </a: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لتُبْلوُنَّ فى أمْوَالِكمْ و أنفسِكم ”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نصْفحُ عَنْ مَجَاهِل قوْمِنَا      و نقِيمُ سَالِفةَ العَدُوِّ الأصْي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798-EA0A-44FD-B5CB-B749999816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B35F4-20D7-4682-BD5E-4F5EBA72BAF0}" type="datetime3">
              <a:rPr lang="en-US"/>
              <a:t>July 28, 2026</a:t>
            </a:fld>
          </a:p>
        </p:txBody>
      </p:sp>
    </p:spTree>
  </p:cSld>
  <p:transition>
    <p:comb dir="horz"/>
    <p:sndAc>
      <p:stSnd>
        <p:snd r:embed="rId1" name="wind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94920" y="981000"/>
            <a:ext cx="708660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حسان بن ثابت – رضى الله عنه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إنِّى لحُلوٌ تعْترينِى مَرَارَةٌ     و إنِّى لترَّاكٌ لِمَا لمْ أعَوَّ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الأرجانى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إنَّا لفِى زمَنِ مَلآنَ مِنْ فِتن     فلا يُعَابُ بهِ مَلانَ مِنْ فَرَ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ال لبيد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Tahoma"/>
              </a:rPr>
              <a:t>و لقدْ عَلِمْتُ لتأتِيَنَّ مَنِيَّتى      إنَّ المَنايَا لا تطِيشُ سِهَامُهَ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10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ahoma"/>
                <a:cs typeface="DecoType Naskh Extensions"/>
              </a:rPr>
              <a:t>فى هذه الطائفة المخاطب منكر للحكم جاحد له و لذلك أكد بأكثر من مؤكد و يسمَّى هذا الضرب</a:t>
            </a:r>
            <a:r>
              <a:rPr b="0" lang="ar-SA" sz="4000" spc="-1" strike="noStrike">
                <a:solidFill>
                  <a:srgbClr val="ff0066"/>
                </a:solidFill>
                <a:latin typeface="Tahoma"/>
                <a:ea typeface="DecoType Naskh Extensions"/>
              </a:rPr>
              <a:t> ( إنكاريَّاً ) 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EA8-9844-47E2-A099-69613E64004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C4170-7219-4F60-A181-1BE2BC852CFB}" type="datetime3">
              <a:rPr lang="en-US"/>
              <a:t>July 28, 2026</a:t>
            </a:fld>
          </a:p>
        </p:txBody>
      </p:sp>
    </p:spTree>
  </p:cSld>
  <p:transition>
    <p:push dir="r"/>
    <p:sndAc>
      <p:stSnd>
        <p:snd r:embed="rId1" name="type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733840" y="1500120"/>
            <a:ext cx="4430520" cy="46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ع أطيب تمنيَّاتى بالتوفي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أ / مجدى مختار إبراهيم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مدرس اللغة العربيَّة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 / مجدى مختار إبراهي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706-429D-4DCA-87CA-4EA5D98588B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DA21FC-ED24-490C-81FE-73EBE471E106}" type="datetime3">
              <a:rPr lang="en-US"/>
              <a:t>July 28, 2026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2:31:17Z</dcterms:created>
  <dc:creator>magdy                       </dc:creator>
  <dc:description/>
  <dc:language>en-US</dc:language>
  <cp:lastModifiedBy>magdy</cp:lastModifiedBy>
  <dcterms:modified xsi:type="dcterms:W3CDTF">2008-11-16T18:06:01Z</dcterms:modified>
  <cp:revision>12</cp:revision>
  <dc:subject/>
  <dc:title>التولالالالالالالاص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